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5D975-D057-4095-916E-65C77A9E1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8F4C-24D5-43A3-859D-CC61C6CB8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14025-EA5C-4331-AD7D-2FA6A2350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13227-90AE-4D5B-9C7D-6F1F9C0E7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D5120-6EFA-439E-9EEE-35C28EED0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5AB72-9367-4BC7-8FD5-9EDD1B658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2CD7D-2CC9-43E0-A72B-2B9FA1A58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AF182-F1EA-4249-B236-5CC12664E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4B89C-8093-43F7-AA43-A80EB5035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8E29E-CDFA-40A5-AF3C-BFD295680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45855-6752-4CEF-B580-D704F459D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FCB1-56A0-45CE-B8D8-E6EE65A5B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5B12B-47CC-4C62-9282-4D9FE47D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6EBE6-5751-4911-AEB9-9364528D7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A2BBE-BAAF-4D3C-A131-632CBB774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56891-1D63-4397-BCBE-AD9E1ED65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DE867-9536-44B0-95A5-AE0922129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C96A2E-237E-4C9F-91AF-7C21B86B6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63169-7D32-4AAA-8337-D90A30669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9E8CC-376F-4D6E-9697-C9D8BB0E7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102D4-4B98-4314-A1A9-BAA914AFB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2043C-97F3-4E2D-945B-169C7DF4A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C7950-135B-45D6-90DD-5425D614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B08F4-F750-4097-AF47-3663496FB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4CBC8-0238-46C9-9F32-469488DD2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1C3D3-981C-46F6-A2A1-6C57564D0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85317-8E98-4345-A4B1-2EA300A39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2B0FA-3765-4F91-B9C8-1C464F695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BA955-9475-4C68-9DD0-8DEBAF25A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F72E6E-06BF-47EC-8ECF-2F3721A994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0AA3B-66C9-4CDF-B46A-4B6748A875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AE473-F4DA-42B5-96F0-36D4B8687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C9CAD-8078-4F71-B004-A14451B1A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3924-5F12-45AC-AB64-9CEA4700A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65A81-372B-4A3C-88B3-1FEE14FA9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C31A5-7E6E-4ADD-92FF-C4E9BD188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D6957-661B-4A7D-B01C-B480388FE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CC243-A0C3-4D9B-A952-1E22A0698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F7D0A-C6E7-49F8-8C39-FCF926FFE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E60AE-389B-47CD-8838-E7456C541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EA84F-326D-41DE-A9AE-E1FA20D37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F663BA-B636-4001-ACD5-61AC4AF8B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C12E91-8DC2-4B5D-B9A2-B576170105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832E12-3903-4582-8D8F-D61086781B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A742-B122-4FE2-B65F-8C76782FA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D0C95-3858-427D-9680-2BA09B1C0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2CC33-78FF-4986-B61F-3E9C80A5C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3113D-D8CA-4014-9B08-980604E25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783A5-99A8-4CE2-9EB1-5470E5536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C29FE-53FA-47E6-89B5-98A6BB821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A0297-D112-436F-B786-09AAF3812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588D7-4B16-47CB-9651-502FA1D1C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9C7E7-8F4E-4B20-8FE6-EE3BD24B1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6B20D2-5707-4037-8490-52C82CAFF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9A70A0-6E7B-4657-A833-08DBAB4B09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6F12-0709-4E15-AFDE-30F2CBA76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FB88DA-3480-409B-BBDF-18FFD8508A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E6F12D-278E-45C1-B5D0-8325495A22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C393E-1550-4878-9B2A-894336B18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6F273B-05E8-4E1C-8E5A-5E39BE733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36628-DD8E-4C06-9C42-AF3818BE51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C20EA1-B823-4AB8-8FF3-F3B490D93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C8D68-86AA-4D37-97C9-2A96300BA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E4309-EF86-4E89-BD24-E0D478105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1CF5A-FE0F-48D2-888A-6E8FE96F6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9FA93-686C-411B-A196-FF0983CBA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E5E7-4E07-497B-B4E7-C61E7096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F228B-7B7C-4B89-A236-43AD5145C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7BBA46-648B-4840-A2BD-A57B357C25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D805DC-ECE7-4EDF-90D3-056416B6E0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98C0A-52D9-4C5E-B0CB-43A3B5C5B7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D65A8-7EB8-4FA5-AF50-8B6415001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80AEB4-A4FA-4630-9D84-22A61B158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23A69A-C7D6-4000-820C-CA2AC8F1D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DD30CE-99AE-4ED7-B249-30FBB9C77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948B59-95EB-4618-B33B-B962CDCEE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A0C34-EAE5-46E0-BAF9-D4DE56FAC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CA70-6DA6-4DED-AD6A-9539DEF5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901D2-ECBD-4E5A-9258-53618AE93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6B229-C12B-4108-B008-74A10D06F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5B40F-B5D2-44C5-8FE5-14871AFDF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9ABB06-6F96-42E6-B168-A5D662015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EDDC76-8416-4305-8198-11839C76EA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C2D481-7797-4663-A763-1DFD50119C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53897-DC1C-41AC-9BDA-A34EEB7ED4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3BCB3-7289-4681-83EF-D9E1E2F574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6CC87-1A57-451D-8C05-6FA7F50E1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D25259-4A58-4A37-AC82-D60CD9837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D7FF-8041-4B86-9373-586144335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A00FB3-12DC-49F9-8451-A6826A1206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951E7-C40F-4E29-B898-7A528AEDB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6E0AE-D3E0-4A32-9CD1-4D0D44D98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7B1CB-79EE-4CD4-A381-C470CADB2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210417-9ED4-4BAA-BCC0-248937ABC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307E17-D7D4-4804-87F1-F1CF217C31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AC1C0D-953D-4EF8-80D1-C655A4DA657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E10F-8900-49F6-AC1D-2D8A446701C1}"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C42A-1383-4374-A7A6-02B5197BD598}"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D788-ED15-401D-8F89-4646201C3CA5}"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7F41-927B-4C80-A0E6-BEC52F567C6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EA6E-D14A-4F4C-B35A-5140577C203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E276-D6BE-4871-B0AC-381790D9D61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8890-BE2B-406E-8212-9A50582501E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4B57-CAB3-41EA-9B5C-434A05CD0DFE}"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 educators object to using software tools such as test and worksheet generators.  It is assumed that this type of technology maintains the current method rather than using technology in more innovative way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ase can you make for keeping software tools like this in the classroom?</a:t>
            </a:r>
            <a:endParaRPr b="0" lang="en-US" sz="2700" spc="-1" strike="noStrike">
              <a:solidFill>
                <a:srgbClr val="000000"/>
              </a:solidFill>
              <a:latin typeface="Lucida Sans Unicode"/>
            </a:endParaRPr>
          </a:p>
        </p:txBody>
      </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Time</a:t>
            </a:r>
            <a:r>
              <a:rPr b="0" lang="en-US" sz="2700" spc="-1" strike="noStrike" u="sng">
                <a:solidFill>
                  <a:srgbClr val="000000"/>
                </a:solidFill>
                <a:uFillTx/>
                <a:latin typeface="Lucida Sans Unicode"/>
              </a:rPr>
              <a: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us to spend more time on creating quality lesson plans, cross-curricular activities and technology infused activ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s the option of creating a variety of similar assessments for the same topic.</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swer keys are often provid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ates a variety of review materi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ates activities for students who will be or have been missing numerous class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Formative Assessmen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us to have a variety of quick assessments to gauge where our students are after a class, lesson series or unit.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s us with ideas for automatic recall, entrance/exit passes and journal quest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us to provide practice at various level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udents can work independently on various activ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s a tangible record of what was learn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377"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This type of learning may not stay in long term memor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Correct answers don’t always correlate with real understandi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Worksheets often don’t relate what was learned in real life situation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Worksheets often don’t connect what was learned to other areas of study.</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122400"/>
            <a:ext cx="848052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lanc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enerators work best when used as a tool in combination with other types of assessment.</a:t>
            </a:r>
            <a:endParaRPr b="0" lang="en-US" sz="23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23:56:20Z</dcterms:created>
  <dc:creator>ladmin</dc:creator>
  <dc:description/>
  <dc:language>en-US</dc:language>
  <cp:lastModifiedBy>Mike</cp:lastModifiedBy>
  <dcterms:modified xsi:type="dcterms:W3CDTF">2012-07-12T16:20:05Z</dcterms:modified>
  <cp:revision>5</cp:revision>
  <dc:subject/>
  <dc:title>Chapter 5 Question 1</dc:title>
</cp:coreProperties>
</file>